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2513-7D8C-4EBD-8C9A-D9ECC081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FEAC-C5C5-49BA-A68F-13BA0FBC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648D-0F05-4BE0-B63F-7B924363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C596-03D4-4E31-8646-8F042D144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9CA1-ADD1-4163-8E18-3F4A05E90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964D-3646-49BC-8F7D-4DCB4778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6D58-076C-46C9-B9D8-3118AFB3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D0D6-287E-49F0-B413-9CFAD32D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AA01-AA5F-44EE-8791-1E8A0BDF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4E35-2467-49DC-A192-0E9453C0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7620-CFE0-4A65-A561-DE088B9C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482C-867A-44BA-8068-C1CA6C3A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7D6E-1BBF-42E9-A779-E7215140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9EAB-4773-490C-8855-B47BBA4A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A72D-EB7B-477E-97D2-19AFAA79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ADAB-B360-4C69-A343-2A76D537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DFC3-A25C-47C4-AB12-ACFF1A52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FFEED-615A-44A9-B5C0-4874965DB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ED264-7283-43D1-A6FD-D5E97420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3790A-F0A7-44B3-8801-EFE116B6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D98EF-9437-4851-A500-BCCAFFC8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BCE29-5228-421F-A56A-7765E74F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65CC-AD20-4E50-8B90-DD463154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C4F08-2C3D-4C1A-BD2E-5843184A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60F21-4F33-4349-BC38-60EECCB6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4134A-E22A-44D9-BA50-9D283168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D8B43-0F71-47A3-AC18-138AE64B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F69FD-6E3D-4D32-96F4-6E1768B3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2BF11-72B8-4C93-8F93-6D695503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CB5F5-A1A9-43C1-9DF4-3EAF5039F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5E917-B8C4-40BB-AFD8-D9F117D9E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9F729-8A0D-49AD-9074-FAAF6319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2E006-2139-406A-87C5-79DE10DD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0AAE-B995-40FA-95FE-8AE4647A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C9D50-81A3-489F-8DEB-9B3D6987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39743-1668-4941-9E02-4A7B0CFE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1B65B-C662-4A8E-8448-D6F71B72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4CB11-FB3B-4FAB-9798-A23A095E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53DE1-2E9E-4E41-818D-0C19F639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17498-13D4-49A5-A761-9F8A17F9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42007-1C15-435E-A389-0C53DEDF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58AE6-7689-484B-937E-2F9D47FB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DF348-FFA1-45F3-A148-E5799DD6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7F3B8-7511-4035-8791-03B4B6045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5EC1-796C-4DBB-AB44-885BE260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006D2-825D-4DCD-9FE0-582694FC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315D4-599C-49D7-B173-4DF2A65F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E9287-5093-43BC-BB76-77855B56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46F9D-5EC3-4BE5-A515-3F960BE8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AC59F-8BCD-4E5F-9DE8-982BC38E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A32E7-7492-45BF-AB03-ADBCB6AD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CB5ED-BE2E-43ED-892D-EF2FE92C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32DF1-1D1D-4F5A-8D9C-34FD635A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06A7F-4A54-41B4-9F32-92392C15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45473-94CF-4341-8AE0-C7993CC7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DA13-7F58-4C62-B3CC-74699F33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78FD5-2AF9-48C4-9D45-7456B44F8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AC72-F008-47EE-99FD-8ED3C1D9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ABDF-7EFF-48D5-AD21-5E626798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FB1E-B5CB-4951-B229-29A1232B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FDEF-5283-4BDA-A079-772544EC0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3869-C99F-4BFC-9880-AAAA5E88E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9670-AB84-4BA0-9927-12AB9B562D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4F74-69EC-4304-AC16-BFE6AD20E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4E30-67AB-4AD4-8266-A4D0E48F3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755280" y="333000"/>
            <a:ext cx="8209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Monotype Corsiva"/>
              </a:rPr>
              <a:t>Логарифмические уравнения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Monotype Corsiva"/>
              </a:rPr>
              <a:t>и методы их решен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j0233967"/>
          <p:cNvPicPr/>
          <p:nvPr/>
        </p:nvPicPr>
        <p:blipFill>
          <a:blip r:embed="rId1"/>
          <a:stretch/>
        </p:blipFill>
        <p:spPr>
          <a:xfrm>
            <a:off x="5940360" y="3743280"/>
            <a:ext cx="320364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цензирование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 ошиб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1332000" y="981000"/>
                <a:ext cx="4529160" cy="500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7" name="Text Box 6"/>
          <p:cNvSpPr/>
          <p:nvPr/>
        </p:nvSpPr>
        <p:spPr>
          <a:xfrm>
            <a:off x="1332000" y="6093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корней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из ЕГЭ – 2007 (С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6"/>
              <p:cNvSpPr txBox="1"/>
              <p:nvPr/>
            </p:nvSpPr>
            <p:spPr>
              <a:xfrm>
                <a:off x="755640" y="1557360"/>
                <a:ext cx="83883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ad>
                          <m:deg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7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Тренаж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«Красивое»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4"/>
              <p:cNvSpPr txBox="1"/>
              <p:nvPr/>
            </p:nvSpPr>
            <p:spPr>
              <a:xfrm>
                <a:off x="826920" y="2637000"/>
                <a:ext cx="813780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31</m:t>
                            </m:r>
                          </m:e>
                        </m:rad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rad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rad>
                        <m:r>
                          <m:t xml:space="preserve">+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ra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96000" y="333360"/>
            <a:ext cx="3168720" cy="61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Monotype Corsiva"/>
              </a:rPr>
              <a:t>Джон Непе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images"/>
          <p:cNvPicPr/>
          <p:nvPr/>
        </p:nvPicPr>
        <p:blipFill>
          <a:blip r:embed="rId1"/>
          <a:stretch/>
        </p:blipFill>
        <p:spPr>
          <a:xfrm>
            <a:off x="826920" y="0"/>
            <a:ext cx="540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рафический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1341360"/>
            <a:ext cx="8317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огарифмическая функция у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определена при любом 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я                           логарифмическая    при 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0,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, а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ластью определения логарифмической функции является множество действительных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ластью значений логарифмической функции является множество действительных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8"/>
              <p:cNvSpPr txBox="1"/>
              <p:nvPr/>
            </p:nvSpPr>
            <p:spPr>
              <a:xfrm>
                <a:off x="6227640" y="1341360"/>
                <a:ext cx="100836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964360" y="6092640"/>
            <a:ext cx="401400" cy="76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6" name="Object 14"/>
              <p:cNvSpPr txBox="1"/>
              <p:nvPr/>
            </p:nvSpPr>
            <p:spPr>
              <a:xfrm>
                <a:off x="3059280" y="2205000"/>
                <a:ext cx="18716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26560" y="259920"/>
            <a:ext cx="8137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Логарифмическая функция – чет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Логарифмическая функция – нечет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Функция                              (при основании большем 1) – возраста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Функция                           при положительном, но меньшем единицы основании, - возраста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Логарифмическая функция имеет экстремум в точке (1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 График функции                        пересекается с осью О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. График логарифмической функции находится в верхней полуплос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7"/>
              <p:cNvSpPr txBox="1"/>
              <p:nvPr/>
            </p:nvSpPr>
            <p:spPr>
              <a:xfrm>
                <a:off x="3059280" y="2205000"/>
                <a:ext cx="18000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10"/>
              <p:cNvSpPr txBox="1"/>
              <p:nvPr/>
            </p:nvSpPr>
            <p:spPr>
              <a:xfrm>
                <a:off x="3132000" y="1197000"/>
                <a:ext cx="1943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13"/>
              <p:cNvSpPr txBox="1"/>
              <p:nvPr/>
            </p:nvSpPr>
            <p:spPr>
              <a:xfrm>
                <a:off x="4572000" y="4437000"/>
                <a:ext cx="18018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71640" y="260280"/>
            <a:ext cx="7921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.График логарифмической функции симметричен относительно О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3.График логарифмической функции всегда находится 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4. График логарифмической функции всегда пересекает Ох в точке (1;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.Существует логарифм отрицательного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6. Существует логарифм дробного положительного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7. График логарифмической функции проходит через точку (0;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опроверка дикта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684360" y="2708280"/>
                <a:ext cx="885960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ntersect</m:t>
                    </m:r>
                    <m:sSub>
                      <m:e>
                        <m:r>
                          <m:t xml:space="preserve">intersect</m:t>
                        </m:r>
                        <m:r>
                          <m:t xml:space="preserve">intersect</m:t>
                        </m:r>
                        <m:r>
                          <m:t xml:space="preserve">intersect</m:t>
                        </m:r>
                        <m:r>
                          <m:t xml:space="preserve">intersect</m:t>
                        </m:r>
                        <m:r>
                          <m:t xml:space="preserve">intersect</m:t>
                        </m:r>
                        <m:r>
                          <m:t xml:space="preserve">intersect</m:t>
                        </m:r>
                        <m:r>
                          <m:t xml:space="preserve">intersect</m:t>
                        </m:r>
                      </m:e>
                      <m:sub>
                        <m:r>
                          <m:t xml:space="preserve">intersect</m:t>
                        </m:r>
                      </m:sub>
                    </m:sSub>
                    <m:r>
                      <m:t xml:space="preserve">intersec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ие из чисел 5, 0 и – 3 являются корнями уравне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4"/>
              <p:cNvSpPr txBox="1"/>
              <p:nvPr/>
            </p:nvSpPr>
            <p:spPr>
              <a:xfrm>
                <a:off x="1187280" y="1844640"/>
                <a:ext cx="216072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6"/>
              <p:cNvSpPr txBox="1"/>
              <p:nvPr/>
            </p:nvSpPr>
            <p:spPr>
              <a:xfrm>
                <a:off x="1042920" y="3213000"/>
                <a:ext cx="28814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e>
                    </m:rad>
                    <m:r>
                      <m:t xml:space="preserve">=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8"/>
              <p:cNvSpPr txBox="1"/>
              <p:nvPr/>
            </p:nvSpPr>
            <p:spPr>
              <a:xfrm>
                <a:off x="971640" y="4724280"/>
                <a:ext cx="32814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Text Box 10"/>
          <p:cNvSpPr/>
          <p:nvPr/>
        </p:nvSpPr>
        <p:spPr>
          <a:xfrm>
            <a:off x="5796000" y="1916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5940360" y="3284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5219640" y="465300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 одно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вносильны ли уравне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971640" y="1268280"/>
                <a:ext cx="273672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6"/>
              <p:cNvSpPr txBox="1"/>
              <p:nvPr/>
            </p:nvSpPr>
            <p:spPr>
              <a:xfrm>
                <a:off x="5292720" y="1268280"/>
                <a:ext cx="37083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8"/>
              <p:cNvSpPr txBox="1"/>
              <p:nvPr/>
            </p:nvSpPr>
            <p:spPr>
              <a:xfrm>
                <a:off x="900000" y="2276640"/>
                <a:ext cx="280836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10"/>
              <p:cNvSpPr txBox="1"/>
              <p:nvPr/>
            </p:nvSpPr>
            <p:spPr>
              <a:xfrm>
                <a:off x="5392800" y="2421000"/>
                <a:ext cx="37512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12"/>
              <p:cNvSpPr txBox="1"/>
              <p:nvPr/>
            </p:nvSpPr>
            <p:spPr>
              <a:xfrm>
                <a:off x="900000" y="3500280"/>
                <a:ext cx="295128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13"/>
              <p:cNvSpPr txBox="1"/>
              <p:nvPr/>
            </p:nvSpPr>
            <p:spPr>
              <a:xfrm>
                <a:off x="5435640" y="3645000"/>
                <a:ext cx="338436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14"/>
              <p:cNvSpPr txBox="1"/>
              <p:nvPr/>
            </p:nvSpPr>
            <p:spPr>
              <a:xfrm>
                <a:off x="971640" y="5013360"/>
                <a:ext cx="316692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15"/>
              <p:cNvSpPr txBox="1"/>
              <p:nvPr/>
            </p:nvSpPr>
            <p:spPr>
              <a:xfrm>
                <a:off x="5508720" y="5013360"/>
                <a:ext cx="316692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AutoShape 16"/>
          <p:cNvSpPr/>
          <p:nvPr/>
        </p:nvSpPr>
        <p:spPr>
          <a:xfrm>
            <a:off x="3780000" y="2637000"/>
            <a:ext cx="1584000" cy="576000"/>
          </a:xfrm>
          <a:prstGeom prst="leftRightArrow">
            <a:avLst>
              <a:gd name="adj1" fmla="val 50000"/>
              <a:gd name="adj2" fmla="val 54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7"/>
          <p:cNvSpPr/>
          <p:nvPr/>
        </p:nvSpPr>
        <p:spPr>
          <a:xfrm>
            <a:off x="3995640" y="5373720"/>
            <a:ext cx="1584360" cy="576360"/>
          </a:xfrm>
          <a:prstGeom prst="leftRightArrow">
            <a:avLst>
              <a:gd name="adj1" fmla="val 50000"/>
              <a:gd name="adj2" fmla="val 547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9200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в групп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ить уравнение (дать отве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казать метод решения данных урав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ить уравнения для представления на математическом б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04:03:29Z</dcterms:created>
  <dc:creator>Груббе Л.А.</dc:creator>
  <dc:description/>
  <dc:language>en-US</dc:language>
  <cp:lastModifiedBy>Юлия</cp:lastModifiedBy>
  <dcterms:modified xsi:type="dcterms:W3CDTF">2017-11-23T17:57:18Z</dcterms:modified>
  <cp:revision>10</cp:revision>
  <dc:subject/>
  <dc:title>Слайд 1</dc:title>
</cp:coreProperties>
</file>